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3110-ED09-4BF8-924D-A8C5C141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CE7-981E-4202-BBFE-345601D4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6B98-B37C-4D95-B14F-3E6FE828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6D02-EF6D-4498-8EA6-2FC260C7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355-034B-43A9-8692-FC37F32A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8940-E963-4033-B520-D80ED4B3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B3DD-4D55-4360-A76F-0E267084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ABC-B57A-4D02-B41A-1A8B2088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527-D2D7-46FE-BA29-E9B765CB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14B6-29E3-46D0-8E72-86160016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3624-42F4-40C0-8FE1-6184EBC4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C02B-D7BB-4C80-B075-C32CCEDE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92F2-4209-4BC7-9124-7F76AF596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80 Keď Pán Ježiš opäť prí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aj ja so spasený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konečne blažený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ospevmi radostný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a večne sláv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dem smie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Pán Ježiš opäť príd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žiari zem slávy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itne nové, krásne rán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en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í, čo v neho uveri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dú jasať v onen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ich vezme k seb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dú večne s 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aj ja so spasený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konečne blažený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ospevmi radostný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a večne sláv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dem smie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ŕtvi v Kristu vstanú z hrobov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ám Pán ich zavol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í živí telo nové dostanú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olu radovať sa bud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ich smrť už nezdolá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tedy všetky sveta strasti prestan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aj ja so spasený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konečne blažený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ospevmi radostný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a večne sláv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dem smie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le pracujme pre Kris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šírme jeho spásnu zvesť,</a:t>
            </a:r>
            <a:br>
              <a:rPr sz="4800"/>
            </a:b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túto úlohu on z lásky zveril nám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mnohí prijali 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ávali mu chválu,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eď príde, vošli s n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nebies b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2-12T19:48:21Z</dcterms:modified>
  <cp:revision>6</cp:revision>
  <dc:subject/>
  <dc:title>Je veľký náš Pán, on slávy je Kráľ Nech do všetkých strán  spev vrúcnych znie chvál.</dc:title>
</cp:coreProperties>
</file>